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6E3-D02A-47AD-864B-BE13DB19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3BE-9551-4C2E-9238-351F5AAE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EBD-1475-4B41-B59E-450D1BC0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390-4A12-446C-905E-64C3944F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45D0-B1B0-4A3C-B194-020FE5E9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F038-46D5-42DA-9024-07E9784E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5E70-F214-4C51-8049-435AABAB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3644-D203-48C5-94F4-1D20F2E2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C7FF-A9F1-431D-9E53-7523B839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24D2-32A4-4773-BC71-CDB1D29D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C5A5-96A1-4F3A-9108-12707EE6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007-7096-4996-BE9E-4A2EC73C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5132-CA7B-4995-9834-0C51260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B891-A5DD-4F17-AEC6-CCD63973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5700-DB30-4A35-B663-1B626FA5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B473-689C-4364-9039-1AC3D483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177F-B15B-49BD-84EB-BF73DF55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408-FEFA-40C2-A8C5-568FBA76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C0E-DB80-4FA6-BC9A-096F90D5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68A-F5D7-4238-86A5-D1537D9B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546-A7C9-4756-A8F6-E8B3B584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41B-B81F-4948-868F-C6C7A7C5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C80-5CCD-48D6-8480-DBBC02C0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91F-4E1B-48C1-B168-50963DD6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039F-E5D9-4231-9C20-E84E45659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99D1-60BD-4DA3-8245-E1E63D18F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73700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Проект</a:t>
            </a:r>
            <a:r>
              <a:rPr b="0" lang="en-US" sz="4400" spc="-1" strike="noStrike">
                <a:solidFill>
                  <a:srgbClr val="2d8d3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2923920"/>
            <a:ext cx="7344000" cy="288108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9900"/>
                </a:solidFill>
                <a:uFillTx/>
                <a:latin typeface="Arial"/>
              </a:rPr>
              <a:t>«Бесконечность 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9900"/>
                </a:solidFill>
                <a:uFillTx/>
                <a:latin typeface="Arial"/>
              </a:rPr>
              <a:t>множеств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92360" y="2924280"/>
            <a:ext cx="57052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00a4"/>
                </a:solidFill>
                <a:latin typeface="Arial"/>
              </a:rPr>
              <a:t>4. Объединение множеств.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18320" cy="439884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3500000"/>
          </a:gradFill>
          <a:ln w="9360">
            <a:solidFill>
              <a:srgbClr val="cc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ьмём два множества:  А = {1, 2, 3, 4}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{4, 5, 6, 7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м их объединения будет. 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= {1, 2, 3, 4, 5, 6, 7}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бъединением двух множеств А и В называется множество, которое образуют все элементы, принадлежащие хотя бы одному из множеств А и В.</a:t>
            </a: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rcRect l="0" t="0" r="0" b="3970"/>
          <a:stretch/>
        </p:blipFill>
        <p:spPr>
          <a:xfrm>
            <a:off x="2340000" y="3429000"/>
            <a:ext cx="386856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4"/>
                </a:solidFill>
                <a:latin typeface="Arial"/>
              </a:rPr>
              <a:t>5. Дополнение множеств.</a:t>
            </a: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614600" y="3894120"/>
                <a:ext cx="223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684840" y="4543560"/>
                <a:ext cx="238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2296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Возьмём два множества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= {1, 2, 3, 4, 5}  и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= {4, 5, 6, 7}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Их разность будет: 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{1, 2, 3, 4, 5}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\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 {4, 5, 6, 7} = {1, 2, 3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или    А 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\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  В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{1, 2, 3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Разностью множеств или дополнением элементов множества В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о А является множество, которое составляют элементы,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принадлежащие множеству А и не принадлежащие множеству В.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, а теперь, попробуем найти  разность:      В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ьмём два множества: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= {4, 5, 6, 7}  и  А = {1, 2, 3, 4, 5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х разность будет: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{4, 5, 6, 7}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{1, 2, 3, 4, 5} = {6, 7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\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А = {6, 7}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отметить, что         А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В   ≠   В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читании множеств нельзя менять их мес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99640" y="1773000"/>
            <a:ext cx="7505640" cy="442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При отображении множеств всегда надо имет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а) два множества, начальное А и завершающее 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б) знать операцию, или правило, при помощи которого элементам одного множества ставят в соответствие элементы второго множества.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5538600" cy="29368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32876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a4"/>
                </a:solidFill>
                <a:latin typeface="Arial"/>
              </a:rPr>
              <a:t>6. «Отображения» множеств.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547640" y="1341360"/>
                <a:ext cx="60962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4"/>
                </a:solidFill>
                <a:latin typeface="Arial"/>
              </a:rPr>
              <a:t>9. Множества и числа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302680" cy="49212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ьмём отображение множест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Эквипотентными  называются такие множества, которые имеют одинаковое количество элемент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имер, такие множества эквипотентны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эквипотентных множеств есть общие признаки. Обычно говорят, что у них одинаковая мощность, или одно и то же кардинальное число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763640" y="2997360"/>
            <a:ext cx="597708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Кардинальные</a:t>
            </a: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числа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Кардинальное число показывает, сколько имеется чисел, а порядковое число отвечает на вопрос: какое оно по поряд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 , один, пять, десять... – кардинальные числа, а первый, пятый, десятый, ... – порядковые чис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ём обозначения кардинальных чисе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ведённом примере отображения можно записа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 (R) = k (S)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динальное число каждого одночленного множества равно едини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динальное число каждого  двучленного множества равно дву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динальное число каждого  трехчленного множества равно трё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>
            <a:alphaModFix amt="3000"/>
          </a:blip>
          <a:stretch/>
        </p:blipFill>
        <p:spPr>
          <a:xfrm>
            <a:off x="3708360" y="2133720"/>
            <a:ext cx="5133960" cy="3600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1320" y="1676160"/>
            <a:ext cx="8591400" cy="4422600"/>
          </a:xfrm>
          <a:prstGeom prst="rect">
            <a:avLst/>
          </a:prstGeom>
          <a:solidFill>
            <a:srgbClr val="ccffff">
              <a:alpha val="48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в Будаговском сельском поселении семь населённых пун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Будагово –  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Ключевое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Аверьяновка –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Б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Тракто – Курзан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138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Северный Кадуй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               А                                        К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Южный Кадуй – ЮК                     107                                        53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Килим – К2.                                                         К2  1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-К  211                              ЮК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К    117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4"/>
                </a:solidFill>
                <a:latin typeface="Arial"/>
              </a:rPr>
              <a:t>II</a:t>
            </a:r>
            <a:r>
              <a:rPr b="1" i="1" lang="ru-RU" sz="2800" spc="-1" strike="noStrike">
                <a:solidFill>
                  <a:srgbClr val="0000a4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Исследование демографического и социального положения жителей Будаговского сельского поселения с помощью теории множеств</a:t>
            </a:r>
            <a:r>
              <a:rPr b="1" i="1" lang="en-US" sz="24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a4"/>
                </a:solidFill>
                <a:latin typeface="Arial"/>
              </a:rPr>
              <a:t>1. Возрастной состав населения и обеспеченность работой.</a:t>
            </a:r>
            <a:r>
              <a:rPr b="1" i="1" lang="en-US" sz="4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исло жителей сельского поселения можно найти как объединение множеств без пересечени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(с/п) = Б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К1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Т-К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СК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ЮК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К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 объединение  вычисляем по кардинальной формул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(с/п) 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Б) +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К1) +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А) +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Т-К) +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СК) +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ЮК) +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К2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де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Б) = 1388;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К1) = 53;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А) = 107;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Т-К) = 211;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СК) = 117;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ЮК) = 105;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К2) = 12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(с/п) = 1388 + 53 + 107 + 211 + 117 + 105 + 129 = 2110 (человек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рослое население составля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110 – 435 = 167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количество взрослого, не работающего населения, не учтённого по сельскому поселению. Для этого нужно подсчитать, сколько пенсионеров и работающих вместе,  учитывая то, что 31 пенсионер работа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569440" cy="6193080"/>
          </a:xfrm>
          <a:prstGeom prst="rect">
            <a:avLst/>
          </a:prstGeom>
          <a:solidFill>
            <a:srgbClr val="ccffff">
              <a:alpha val="28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1.  Работают   404</a:t>
            </a:r>
            <a:br>
              <a:rPr sz="1600"/>
            </a:b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         2.  Пенсионеры  6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4.                  1.          12                                 3.  Работают в городе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63                               3.                                  4. Безработные на учёте в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                                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404                                                 С.З.  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                                        </a:t>
            </a:r>
            <a:r>
              <a:rPr b="0" lang="ru-RU" sz="1600" spc="-1" strike="noStrike">
                <a:solidFill>
                  <a:srgbClr val="cc0066"/>
                </a:solidFill>
                <a:latin typeface="Arial"/>
              </a:rPr>
              <a:t>31                                      5. Работают в Ч.П.  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          2.   6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объединение с пересечением, вычисляем по формул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)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Р) +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П)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Р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 = 404;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П) = 684;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Р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) = 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РП) = 404 + 684 – 31 = 1057 (человек) работают или на пенс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йдём разность или дополнение не работающими, вычисляем по формуле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БР)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Н)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РП)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Ч.П.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де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Н) =1675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РП) = 1057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Ч.П.) = 35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БР) = 1675 – 1057 – 35 = 583  (человека  не работаю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 них на учёте в центре занятости  63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489560" y="3365640"/>
                <a:ext cx="1648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0760" cy="64908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Количество жителей, обеспеченных работой на территории Будагово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01680" y="1052640"/>
          <a:ext cx="8373960" cy="5763960"/>
        </p:xfrm>
        <a:graphic>
          <a:graphicData uri="http://schemas.openxmlformats.org/drawingml/2006/table">
            <a:tbl>
              <a:tblPr/>
              <a:tblGrid>
                <a:gridCol w="852480"/>
                <a:gridCol w="3084480"/>
                <a:gridCol w="443700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Предприят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оличество жителей имеющих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Будаговское сельп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Реабилитационный цент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Будаговская шк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Будаговская больниц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Д.У «Капельк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Будаговская поч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С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Дистанция Ж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Библиот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РЭ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Подстан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Администрация с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Леснич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Участковая мили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Работают на Ч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Все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3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100000">
                          <a:srgbClr val="00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7345440" cy="35290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Отображение работоспособного населения на количество рабочих мест по селу Будагово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18320" cy="4705200"/>
          </a:xfrm>
          <a:prstGeom prst="rect">
            <a:avLst/>
          </a:prstGeom>
          <a:solidFill>
            <a:srgbClr val="00ffff">
              <a:alpha val="42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работоспособного на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рабочих м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5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вод:                                                                                    3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Несоответствие, спрос превышает предложение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Шалыгина Юлия Владимировна</a:t>
            </a:r>
            <a:br>
              <a:rPr sz="2800"/>
            </a:b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МОУ «Будаговская средняя общеобразовательная школа»</a:t>
            </a:r>
            <a:br>
              <a:rPr sz="2000"/>
            </a:b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6 класс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362480" cy="453096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пигра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, бесконечность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даль манила и звал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тому, что без конца и без нач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бездну будущего обещ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, сколько ты умов смущал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чтобы необъятное  обня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шлось кругами Эйл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бя окольцева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множеством, любя, назвать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652920" cy="456732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4"/>
                </a:solidFill>
                <a:latin typeface="Arial"/>
              </a:rPr>
              <a:t>МОУ «Будаговская средняя общеобразовательная  школа» и её</a:t>
            </a:r>
            <a:r>
              <a:rPr b="1" lang="en-US" sz="2000" spc="-1" strike="noStrike">
                <a:solidFill>
                  <a:srgbClr val="0000a4"/>
                </a:solidFill>
                <a:latin typeface="Arial"/>
              </a:rPr>
              <a:t> филиалы.</a:t>
            </a:r>
            <a:r>
              <a:rPr b="1" lang="en-US" sz="40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1700280"/>
          <a:ext cx="8261280" cy="4176720"/>
        </p:xfrm>
        <a:graphic>
          <a:graphicData uri="http://schemas.openxmlformats.org/drawingml/2006/table">
            <a:tbl>
              <a:tblPr/>
              <a:tblGrid>
                <a:gridCol w="1317600"/>
                <a:gridCol w="1055520"/>
                <a:gridCol w="817560"/>
                <a:gridCol w="787320"/>
                <a:gridCol w="833400"/>
                <a:gridCol w="1124280"/>
                <a:gridCol w="925200"/>
                <a:gridCol w="14004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Будаго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аду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или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урз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лючев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БСР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Аверьяно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Началь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64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Среднее зве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Старшие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4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Всего учащих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916360" y="1773360"/>
            <a:ext cx="5294160" cy="3786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8d36"/>
                </a:solidFill>
                <a:latin typeface="Arial"/>
              </a:rPr>
              <a:t>Контингент учащихс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897440"/>
          </a:xfrm>
          <a:prstGeom prst="rect">
            <a:avLst/>
          </a:prstGeom>
          <a:solidFill>
            <a:srgbClr val="ccffcc">
              <a:alpha val="2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Будагово К3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Килим – К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Тракто – Курзан – Т-К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Ключевое – Б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Кадуй –– К1.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БСР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360" y="4723920"/>
            <a:ext cx="9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3 (2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67280" y="47235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К2 (1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80360" y="33570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К1 (4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4920" y="256464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БСРЦ (25)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280" y="2564640"/>
            <a:ext cx="80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(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750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32122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-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9080" y="3499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2200" y="37886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Б (246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836640"/>
          </a:xfrm>
          <a:prstGeom prst="rect">
            <a:avLst/>
          </a:prstGeom>
          <a:gradFill rotWithShape="0">
            <a:gsLst>
              <a:gs pos="0">
                <a:srgbClr val="546a75"/>
              </a:gs>
              <a:gs pos="50000">
                <a:srgbClr val="b7e7ff"/>
              </a:gs>
              <a:gs pos="100000">
                <a:srgbClr val="546a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Проведём подсчёт по кардинальным формулам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18320" cy="576108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Всего школьников в МОУ «Будаговская средняя школа» вместе с филиалами найдём как объединение учащихс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) множество школьников, состоящее из учащихся БСРЦ (25), Аверьяновки А(8) и Ключевого К1(4) является подмножеством учащихся Будагово Б(246), так как обучается в МОУ все года обуч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БСРЦ (25)    </a:t>
            </a:r>
            <a:r>
              <a:rPr b="1" lang="en-US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Б(246);    А(8)  </a:t>
            </a:r>
            <a:r>
              <a:rPr b="1" lang="ru-RU" sz="1800" spc="-1" strike="noStrike">
                <a:solidFill>
                  <a:srgbClr val="0000a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Б(246);     К1(4)  </a:t>
            </a:r>
            <a:r>
              <a:rPr b="1" lang="ru-RU" sz="1800" spc="-1" strike="noStrike">
                <a:solidFill>
                  <a:srgbClr val="0000a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Б(24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В объединение будем брать общее множество Б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БСРЦ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А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К1 = 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б) множество школьников, состоящее из учащихся Килима К2(18), Тракто-Курзана Т-К(26) и Кадуя К3(26) пересекается с множеством учащихся Будагово Б(246), так как учащиеся среднего звена и старшего обучаются в МОУ, а начальные классы в филиал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Это объединение с пересечением, вычисляем по кардинальной форму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МОУ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U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Ф) =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Б) +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Т-К) +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К2) +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К3) –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Б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Т-К) –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Б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К2) –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Б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К3), где  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Б) = 246;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Т-К) =26;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К2) = 18;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К3) = 26;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Б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Т-К) = 16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Б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К2) = 7;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Б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К3) = 1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МОУ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U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Ф) = 246 + 26 + 18 + 26 – 16 – 7 – 17 =  276(учащихс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В филиалах обучается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Ф) =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МОУ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Ф) –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Б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где 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МОУ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U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Ф) = 276;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Б) = 24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(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= 276 – 246 = 30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Учащихся проживающих в Будагово ЖБ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ЖБ) =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МОУ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U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Ф) –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Т-К) –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К2) –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К3) –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) –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БСРЦ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К1)  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ЖБ) = 276 – 26 – 26 – 18 – 8 – 29 = 1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08000" y="2205000"/>
                <a:ext cx="22392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35280" y="2205000"/>
                <a:ext cx="21600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508720" y="2205000"/>
                <a:ext cx="214200" cy="1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724360" y="3933720"/>
                <a:ext cx="21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732720" y="4149720"/>
                <a:ext cx="2156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8028000" y="3933720"/>
                <a:ext cx="287280" cy="1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877080" y="3933720"/>
                <a:ext cx="21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87280" y="4437000"/>
                <a:ext cx="21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700360" y="4437000"/>
                <a:ext cx="21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35120" y="45561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Результаты исследования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447040" cy="46148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13500000"/>
          </a:gradFill>
          <a:ln w="9360">
            <a:solidFill>
              <a:srgbClr val="cc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При проведении исследований получили следующие результа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Всего школьников в Будаговском с/п  27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В филиалах обучается 30 учащих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Учащихся проживающих в Будагово  16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8424720" cy="3311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Дети дошкольного и школьного возраста по Будаговскому с/п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24000" y="1700280"/>
          <a:ext cx="8496000" cy="4782960"/>
        </p:xfrm>
        <a:graphic>
          <a:graphicData uri="http://schemas.openxmlformats.org/drawingml/2006/table">
            <a:tbl>
              <a:tblPr/>
              <a:tblGrid>
                <a:gridCol w="1234800"/>
                <a:gridCol w="1233720"/>
                <a:gridCol w="1234800"/>
                <a:gridCol w="1233720"/>
                <a:gridCol w="966600"/>
                <a:gridCol w="1181160"/>
                <a:gridCol w="14112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Будаго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аду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или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урз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лючево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БСР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Аверьяно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Школьник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4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Д.У. «Капель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Дошкольники вне Д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Предполагаемый контингент учащихся, не учитывая БСРЦ.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51577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2009 – 201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Контингент учащихся  МОУ (24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МОУ) = Б(246) + Д(14) + К2(4) + К3(1) + Т-К(4) – 11(20) – 9А(15) = 2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11 класс 14 выпускников       9-а класс 15 выпуск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2010 – 201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Контингент учащихся  МОУ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23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МОУ) = Б(234) + Д(18) + К2(4) + К3(1) + Т-К(3) – 11(14) – 9А(15) = 2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11 класс 18 выпускников      9-а класс 10 выпуск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2011 – 2012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Контингент учащихся  МОУ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23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МОУ) = Б(231) + Д(18) + К2(1) + К3(3) + Т-К(1)– 11(18) – 9А(10) = 2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11 класс 12 выпускников     9-а класс 11 выпуск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2012 – 2013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Контингент учащихся  МОУ (226)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(МОУ) = Б(226) + Д(17) + К2(2) + К3(4) + Т-К(2) – 11(15) – 9А(15) = 2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11 класс 10 выпускников   9-а класс 8 выпускников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 среднем  контингент учащихся ежегодно уменьшается на 5 – 6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Педагогический коллектив МОУ «Будаговская средняя общеобразовательная школа» и её филиалов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1680" y="1676520"/>
          <a:ext cx="8540640" cy="4600440"/>
        </p:xfrm>
        <a:graphic>
          <a:graphicData uri="http://schemas.openxmlformats.org/drawingml/2006/table">
            <a:tbl>
              <a:tblPr/>
              <a:tblGrid>
                <a:gridCol w="1533600"/>
                <a:gridCol w="1312560"/>
                <a:gridCol w="1424160"/>
                <a:gridCol w="1440000"/>
                <a:gridCol w="1406520"/>
                <a:gridCol w="1423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Будаго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урза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аду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Кили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Учителе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С высшим образование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Со средним специальны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Средне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Учителя – выпускники школ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a4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46a75"/>
                        </a:gs>
                        <a:gs pos="50000">
                          <a:srgbClr val="b7e7ff"/>
                        </a:gs>
                        <a:gs pos="100000">
                          <a:srgbClr val="546a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Диаграммы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cc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Коллектив учителей состоит из специалистов с высшим и средним специальным образованием, можно это множество отобразить с помощью диаграммы, значит, множество можно изображать н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только кругами Эйл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7583760" cy="32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Круговая диаграмм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4"/>
                </a:solidFill>
                <a:latin typeface="Arial"/>
              </a:rPr>
              <a:t>Так же диаграммой можно показать количество учителей бывших выпускников Будаговск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84360" y="2852640"/>
          <a:ext cx="8173800" cy="334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852640"/>
                    <a:ext cx="817380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624200" cy="44226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Заканчивая работу над проектом можно сделать следующие вывод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«Множество» одно из интереснейших открытий в математике. Оно дало возможность изучать бесконечности и математические простран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С помощью обозначений принятых в теории множеств, можно кратко записывать большие определ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С помощью множеств можно исследовать проблемы села и школы, прогнозировать и составлять пла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922920" cy="29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941c"/>
                </a:solidFill>
                <a:latin typeface="Arial"/>
              </a:rPr>
              <a:t>Тогда и Кантор смог научно доказать,</a:t>
            </a:r>
            <a:br>
              <a:rPr sz="2000"/>
            </a:br>
            <a:r>
              <a:rPr b="0" lang="en-US" sz="2000" spc="-1" strike="noStrike">
                <a:solidFill>
                  <a:srgbClr val="ee941c"/>
                </a:solidFill>
                <a:latin typeface="Arial"/>
              </a:rPr>
              <a:t>Что натуральных чисел бесконечное число</a:t>
            </a:r>
            <a:br>
              <a:rPr sz="2000"/>
            </a:br>
            <a:r>
              <a:rPr b="0" lang="en-US" sz="2000" spc="-1" strike="noStrike">
                <a:solidFill>
                  <a:srgbClr val="ee941c"/>
                </a:solidFill>
                <a:latin typeface="Arial"/>
              </a:rPr>
              <a:t>В кругу друзей действительных,</a:t>
            </a:r>
            <a:br>
              <a:rPr sz="2000"/>
            </a:br>
            <a:r>
              <a:rPr b="0" lang="en-US" sz="2000" spc="-1" strike="noStrike">
                <a:solidFill>
                  <a:srgbClr val="ee941c"/>
                </a:solidFill>
                <a:latin typeface="Arial"/>
              </a:rPr>
              <a:t>Местечко скромное нашло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0" b="11319"/>
          <a:stretch/>
        </p:blipFill>
        <p:spPr>
          <a:xfrm>
            <a:off x="588960" y="1916280"/>
            <a:ext cx="7439040" cy="4465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03640" y="5805360"/>
                <a:ext cx="1526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149080" y="5659920"/>
            <a:ext cx="68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Z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580000" y="5805360"/>
                <a:ext cx="1526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5653080" y="565992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227640" y="5805360"/>
                <a:ext cx="1526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300720" y="56599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3364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5661000"/>
            <a:ext cx="3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544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60000" y="3788280"/>
            <a:ext cx="68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Z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7440" y="3643920"/>
            <a:ext cx="66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56428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3364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308720" y="7245360"/>
                <a:ext cx="15264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308720" y="7245360"/>
                <a:ext cx="15264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Мне</a:t>
            </a: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очень понравилось узнавать новые теории в математике и</a:t>
            </a: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исследовать , не хочется расставаться с множествами, но в этом году я уже не  успею так как  надо учить и другие предметы</a:t>
            </a: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1680" y="1742760"/>
            <a:ext cx="8540640" cy="44226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С теорией множеств тесно связана «Комбинаторика», которая используется в физике, биологии, химии, экономике, вычислительной математике. Она изучает подмножества конечных множеств и способы их упорядочивания, перестановки, размещения и сочет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Комбинаторика, немножко подож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Нас ждут открытия и встречи вперед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Думаю, что в следующем году продолжу работать над рефератом, только в новой области «Теории вероятносте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Ввести понятие множества, познакомиться с обозначением множеств и их графической интерпретац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Научиться выполнять операции над множествами, применять знаки и формулы для записи объединений, пересечений и дополнений множе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Познакомиться с прямым произведением множеств и основной операцией множеств – отображ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Установить связь между  операциями над множествами и действиями с числ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Научиться делать аргументированные выводы, генерировать идеи по разрешению ситуаций, применять знания к решению новых задач и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Провести практические эксперимен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Установить, связь рассмотренного материала с жизн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Задачи для проведения экспериментов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357560" indent="-452520">
              <a:spcBef>
                <a:spcPts val="4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Собрать сведения о ставе населения по Будаговскому сельскому поселению, состоящему из семи сё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4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По предприятиям выяснить количество жителей села, работающих на данное врем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4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Установить количество детей в с/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4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Выяснить количество пенсионеров в селах работающих и не работающ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4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Подсчитать безработных на данное время учтённых в социальной защите и не учтё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4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Собрать сведения об учащихся и дошкольник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4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a4"/>
                </a:solidFill>
                <a:latin typeface="Arial"/>
              </a:rPr>
              <a:t>С помощью теории множеств составить таблицы и схемы, по результатам подсчётов сделать выводы и прогнозы на будуще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Понятие множест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7931160" cy="453096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д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множеств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«Под множеством мы подразумеваем объединение в целое определённых, различающихся между собой объектов нашего представления или мышления»</a:t>
            </a: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несколько способов обозначения множе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ключить конечное число элементов в скоб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т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ётр, Иван, Сергей, Матв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2, 4, 6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ить только характерное свойство, которым обладают элемен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жество всех чётных чисел, меньших 100, записывают таким образ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 │ х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ное число и меньшее, чем 100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2880" y="-108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1440" y="69408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60" y="1180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-108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440" y="69408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82840" y="2449440"/>
                <a:ext cx="273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-360" y="1180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880" y="-108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" y="69408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60" y="1180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00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800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00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00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0" y="180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0" y="180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0" y="180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0" y="180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" y="180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0" y="180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0" y="180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0" y="180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a4"/>
                </a:solidFill>
                <a:latin typeface="Arial"/>
              </a:rPr>
              <a:t>Обозначение множеств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373960" cy="44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устим, нам задано множест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ое содержит три элемента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начит, чт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элемент множеств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элемент множеств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элемент множеств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о слов «элемент множества», или «принадлежит множеству» математики ввели обозначени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688080" y="26352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360" y="122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60" y="122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60" y="122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360" y="122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60" y="122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60" y="122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360" y="122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60" y="122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60" y="122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0" y="122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360" y="122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633600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a4"/>
                </a:solidFill>
                <a:latin typeface="Arial"/>
              </a:rPr>
              <a:t>Операции над множества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44640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cc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Равенство множе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Два множества равны, если содержат одни и те же элемен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ьмём множества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} и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}. Они равны, и их можно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     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} = 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жество, которое содержится в другом множестве, называется подмножеств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Если каждый элемент какого-то множества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 является в тоже время элементом множества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, то можно сказать, что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 – подмножество множества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30040"/>
            <a:ext cx="8510400" cy="132408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Пересечение</a:t>
            </a:r>
            <a:r>
              <a:rPr b="1" lang="en-US" sz="2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множеств</a:t>
            </a:r>
            <a:r>
              <a:rPr b="1" lang="en-US" sz="2800" spc="-1" strike="noStrike">
                <a:solidFill>
                  <a:srgbClr val="0000a4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176720" cy="44226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Пересечением двух множеств А и В называется множество, состоящее из тех, и только тех, элементов, которые  входят и во множество А, и во множество 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  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1,2,3,4,5,6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5,6,7,8,9} = {5,6}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688080" y="26352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745080" cy="453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545160" y="4653000"/>
                <a:ext cx="400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0" y="3214800"/>
                <a:ext cx="16200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-360" y="3337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13364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84360" y="4581360"/>
                <a:ext cx="2156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56000" y="4581360"/>
                <a:ext cx="2156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971640" y="7245360"/>
                <a:ext cx="2156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1:55:22Z</dcterms:created>
  <dc:creator>1</dc:creator>
  <dc:description/>
  <dc:language>en-US</dc:language>
  <cp:lastModifiedBy>Галина Викторовна</cp:lastModifiedBy>
  <dcterms:modified xsi:type="dcterms:W3CDTF">2011-01-25T20:16:26Z</dcterms:modified>
  <cp:revision>125</cp:revision>
  <dc:subject/>
  <dc:title>Реферат </dc:title>
</cp:coreProperties>
</file>